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157-3123-41BD-80F1-B68661E4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4D9-F577-4AC1-A131-57BD601C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D45-EB2B-49E0-92EE-5D0DDA3C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E08-ADAC-4726-9D1F-0CAB6D4E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0A8-D668-4E13-8334-CC1AAC64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471-84B0-4053-A42B-8730E53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D1F-4E34-4098-97BE-60B6A6EE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1EE-4B21-49F3-B26C-856A76F1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34E-083D-46D7-9F04-89AA6441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48B-8860-4DE1-9140-5E1C7C8D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321-614C-4FFF-9CD8-D5D72C9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F39-941A-4FE4-927F-0F84B0F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7DDB-D9BD-441D-8A3E-3910FFB851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3168720"/>
            <a:ext cx="8001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UNIT FOUR WHERE IS MY SHIRT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Lesson 1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课件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1360" y="4071600"/>
            <a:ext cx="585756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Are these your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enc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hrou\Desktop\QQ图片20140314152228.jpg"/>
          <p:cNvPicPr/>
          <p:nvPr/>
        </p:nvPicPr>
        <p:blipFill>
          <a:blip r:embed="rId2"/>
          <a:stretch/>
        </p:blipFill>
        <p:spPr>
          <a:xfrm>
            <a:off x="2500200" y="642960"/>
            <a:ext cx="5559480" cy="3214800"/>
          </a:xfrm>
          <a:prstGeom prst="rect">
            <a:avLst/>
          </a:prstGeom>
          <a:ln w="0">
            <a:noFill/>
          </a:ln>
        </p:spPr>
      </p:pic>
      <p:sp>
        <p:nvSpPr>
          <p:cNvPr id="93" name="标题 1"/>
          <p:cNvSpPr/>
          <p:nvPr/>
        </p:nvSpPr>
        <p:spPr>
          <a:xfrm>
            <a:off x="1785960" y="5143680"/>
            <a:ext cx="5857920" cy="8571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Yes, they a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1360" y="4071600"/>
            <a:ext cx="585756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’s the penc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hrou\Desktop\QQ图片20140314152228.jpg"/>
          <p:cNvPicPr/>
          <p:nvPr/>
        </p:nvPicPr>
        <p:blipFill>
          <a:blip r:embed="rId2"/>
          <a:stretch/>
        </p:blipFill>
        <p:spPr>
          <a:xfrm>
            <a:off x="2500200" y="642960"/>
            <a:ext cx="5559480" cy="3214800"/>
          </a:xfrm>
          <a:prstGeom prst="rect">
            <a:avLst/>
          </a:prstGeom>
          <a:ln w="0">
            <a:noFill/>
          </a:ln>
        </p:spPr>
      </p:pic>
      <p:sp>
        <p:nvSpPr>
          <p:cNvPr id="96" name="标题 1"/>
          <p:cNvSpPr/>
          <p:nvPr/>
        </p:nvSpPr>
        <p:spPr>
          <a:xfrm>
            <a:off x="1785960" y="5143680"/>
            <a:ext cx="5857920" cy="8571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t’s under the boo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360" y="4071600"/>
            <a:ext cx="58575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’s the boo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hrou\Desktop\QQ图片20140314152228.jpg"/>
          <p:cNvPicPr/>
          <p:nvPr/>
        </p:nvPicPr>
        <p:blipFill>
          <a:blip r:embed="rId2"/>
          <a:stretch/>
        </p:blipFill>
        <p:spPr>
          <a:xfrm>
            <a:off x="2500200" y="642960"/>
            <a:ext cx="5559480" cy="32148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1785960" y="5143680"/>
            <a:ext cx="585792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’s on the des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标题 1"/>
          <p:cNvGrpSpPr/>
          <p:nvPr/>
        </p:nvGrpSpPr>
        <p:grpSpPr>
          <a:xfrm>
            <a:off x="1011240" y="3962520"/>
            <a:ext cx="5975280" cy="1042920"/>
            <a:chOff x="1011240" y="3962520"/>
            <a:chExt cx="5975280" cy="1042920"/>
          </a:xfrm>
        </p:grpSpPr>
        <p:pic>
          <p:nvPicPr>
            <p:cNvPr id="101" name="标题 1" descr=""/>
            <p:cNvPicPr/>
            <p:nvPr/>
          </p:nvPicPr>
          <p:blipFill>
            <a:blip r:embed="rId2"/>
            <a:stretch/>
          </p:blipFill>
          <p:spPr>
            <a:xfrm>
              <a:off x="1011240" y="3962520"/>
              <a:ext cx="59752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071720" y="4071960"/>
              <a:ext cx="58575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here’s the desk?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2" descr="C:\Users\hrou\Desktop\QQ图片20140314152228.jpg"/>
          <p:cNvPicPr/>
          <p:nvPr/>
        </p:nvPicPr>
        <p:blipFill>
          <a:blip r:embed="rId3"/>
          <a:stretch/>
        </p:blipFill>
        <p:spPr>
          <a:xfrm>
            <a:off x="2500200" y="642960"/>
            <a:ext cx="5559480" cy="3214800"/>
          </a:xfrm>
          <a:prstGeom prst="rect">
            <a:avLst/>
          </a:prstGeom>
          <a:ln w="0">
            <a:noFill/>
          </a:ln>
        </p:spPr>
      </p:pic>
      <p:grpSp>
        <p:nvGrpSpPr>
          <p:cNvPr id="104" name="标题 1"/>
          <p:cNvGrpSpPr/>
          <p:nvPr/>
        </p:nvGrpSpPr>
        <p:grpSpPr>
          <a:xfrm>
            <a:off x="1725480" y="5035680"/>
            <a:ext cx="5973840" cy="1036440"/>
            <a:chOff x="1725480" y="5035680"/>
            <a:chExt cx="5973840" cy="1036440"/>
          </a:xfrm>
        </p:grpSpPr>
        <p:pic>
          <p:nvPicPr>
            <p:cNvPr id="105" name="标题 1" descr=""/>
            <p:cNvPicPr/>
            <p:nvPr/>
          </p:nvPicPr>
          <p:blipFill>
            <a:blip r:embed="rId4"/>
            <a:stretch/>
          </p:blipFill>
          <p:spPr>
            <a:xfrm>
              <a:off x="1725480" y="5035680"/>
              <a:ext cx="59738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785960" y="5143320"/>
              <a:ext cx="58575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It’s in the park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60360" y="2781360"/>
            <a:ext cx="6423120" cy="19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Practice!</a:t>
            </a:r>
            <a:endParaRPr b="1" i="1" lang="en-US" sz="72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00000" y="127944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Is this your penc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是你的铅笔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it is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not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my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不是我的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42920" y="68400"/>
            <a:ext cx="4143240" cy="581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Calibri"/>
              </a:rPr>
              <a:t>Conversation </a:t>
            </a:r>
            <a:r>
              <a:rPr b="0" lang="en-US" sz="2400" spc="-1" strike="noStrike">
                <a:solidFill>
                  <a:srgbClr val="222268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1057320"/>
            <a:ext cx="8643960" cy="45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da:      I lost my watch this mo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OK. Is this your wat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da:     No, it isn’t. That’s my watch. And that’s my ID c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85840" y="162864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琳达：  这个早上，我丢了我的手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14200" y="262908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老师：  哦。这个是你的手表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324000" y="4437000"/>
            <a:ext cx="814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琳达：  不，它不是。那个是我的手表。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        </a:t>
            </a: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有那个是我的学生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357120" y="928800"/>
            <a:ext cx="7215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: What’s your na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da:     Li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15001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老师：  你叫什么名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8760" y="25002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琳达：  琳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142920" y="139680"/>
            <a:ext cx="621504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Calibri"/>
              </a:rPr>
              <a:t>Conversati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14200" y="785880"/>
            <a:ext cx="8072640" cy="423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ke:      That’s my 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ke:      Yes, and that’s my base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Alright. What’s your na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85840" y="13255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迈克：  那个是我的钢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14200" y="232560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老师：  这个</a:t>
            </a:r>
            <a:r>
              <a:rPr b="0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14200" y="341136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迈克：  是的，还有那个是我的棒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42920" y="44118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老师：  好的。你叫什么名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"/>
          <p:cNvSpPr/>
          <p:nvPr/>
        </p:nvSpPr>
        <p:spPr>
          <a:xfrm>
            <a:off x="285840" y="566640"/>
            <a:ext cx="75009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ke:      Mi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: OK. Here’s your base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ke:      Thank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357120" y="1143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迈克：  迈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85840" y="22017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老师：  好的。你的棒球在这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85840" y="32734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迈克：  谢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60360" y="2781360"/>
            <a:ext cx="6423120" cy="19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Review!</a:t>
            </a:r>
            <a:endParaRPr b="1" i="1" lang="en-US" sz="72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Read the ‘Story time’4 times,imitate the pronunciation and the innov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Helping our friends—bi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08360" y="1484280"/>
            <a:ext cx="4859280" cy="57636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we ask the loc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2205000"/>
            <a:ext cx="43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向别人问地点？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4148280"/>
            <a:ext cx="4859280" cy="57600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answ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4869000"/>
            <a:ext cx="42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回答？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133720"/>
            <a:ext cx="2519640" cy="25192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  <a:ea typeface="方正舒体"/>
              </a:rPr>
              <a:t>How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V="1" rot="11486400">
            <a:off x="2265120" y="1800360"/>
            <a:ext cx="230436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55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55994"/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V="1" rot="4108800">
            <a:off x="2567880" y="2543040"/>
            <a:ext cx="186444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55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55994"/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765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first time,where is the bi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ch and choo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动画，选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2951280" cy="219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227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A.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It’s on the de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365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. It’s under the de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21000600">
            <a:off x="5508360" y="162864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21000600">
            <a:off x="5219640" y="4723920"/>
            <a:ext cx="84312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067280" y="3860640"/>
            <a:ext cx="2952720" cy="219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04000" y="76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76500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second time,where is the bi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9000"/>
            <a:ext cx="914400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ch and choo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动画，选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4922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4210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A.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It’s behind the do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4653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B.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It’s on the ch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519640" cy="223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21000600">
            <a:off x="5364000" y="4365360"/>
            <a:ext cx="1055880" cy="108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21000600">
            <a:off x="5796000" y="2349000"/>
            <a:ext cx="84276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500720" y="141300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04000" y="76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765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third time,where is the bi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9000"/>
            <a:ext cx="914400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ch and choo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动画，选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2951280" cy="219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227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A.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It’s in the de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365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. It’s under the de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1000600">
            <a:off x="5579640" y="2276640"/>
            <a:ext cx="77328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 rot="21000600">
            <a:off x="5219640" y="4723920"/>
            <a:ext cx="843120" cy="86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067280" y="3860640"/>
            <a:ext cx="2950920" cy="2190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04000" y="76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765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fourth time,where is the bi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9000"/>
            <a:ext cx="914400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ch and choo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动画，选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4922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4210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A.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It’s behind the do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653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B.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It’s in the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21000600">
            <a:off x="5796000" y="2349000"/>
            <a:ext cx="842760" cy="863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04000" y="76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3933720"/>
            <a:ext cx="3457440" cy="252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 rot="21000600">
            <a:off x="6315120" y="5105520"/>
            <a:ext cx="3492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8280"/>
            <a:ext cx="9144000" cy="863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ead after the cartoon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（跟读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997360"/>
            <a:ext cx="8137440" cy="26636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幼圆"/>
              </a:rPr>
              <a:t>注意模仿故事中人物的语音语调哦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60360" y="2781360"/>
            <a:ext cx="6423120" cy="19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Learn!</a:t>
            </a:r>
            <a:endParaRPr b="1" i="1" lang="en-US" sz="72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07:22:44Z</dcterms:created>
  <dc:creator/>
  <dc:description/>
  <dc:language>en-US</dc:language>
  <cp:lastModifiedBy/>
  <dcterms:modified xsi:type="dcterms:W3CDTF">2015-06-23T02:48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